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E67-CF42-41AC-960C-8309DAFD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038-1992-44F1-A1F5-0ADAB982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FE1-A74A-4899-AE0E-9B105AB8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6BB-6B50-4D47-B654-2C066120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70E0-8BB4-4E46-A977-DB6DCCCF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155F-B78D-425D-ABD8-CA969FAB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97D3-85A6-425C-9504-DFF394BD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2E2C-693B-49C4-9AEE-D71A3A6E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11BD-AD05-40E5-8F9F-081FC88A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9D56-4B8C-437B-B936-A220A163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0A74-A83F-466F-9B13-21DAC7A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ADA-5B47-426F-BD67-1556D83B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DCE2-2069-4B16-9638-849674A9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59B0-E5A6-4F3C-BD9A-B3FA1FB1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58FE-CC9F-45F5-8E15-E8F655C2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0420-560F-4B1A-9B25-267D00D4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68DF-C25B-42EE-B9E0-447566A5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945-2C24-42DB-88D4-E0DC9B79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C6E-2B6B-48BD-A507-2B846EF9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D36-E5BF-4280-8B26-ABD5503F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B1E-909C-4519-9CD1-B3EC786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C30-026C-42BF-A43B-B4321C61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165-8B7E-4907-A20A-77712FBC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6BB-2ACD-4AD3-83F2-B909C7F9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A2AE-18F6-4CA3-816B-4D23190835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6398-F7DE-4A79-B8E8-FEA9377036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609480" y="-41400"/>
            <a:ext cx="10362960" cy="689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66880" y="4114800"/>
            <a:ext cx="3810240" cy="2602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República Dominicana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1930 - 196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160" y="30481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The Era of Trujill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República Dominican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fore Truji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492) Colony of Sp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795) Colony of Fr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1) Haitian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9) First Re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14) Colony of Spa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1) Rebe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2) Haitian Contr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44) Rebellion &amp; In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61) Spanish Provi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70) Treaty with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16) Dictatorship Ulises Heureau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24) Dictatorship Horacio Vásqu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494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afael Leonidas Trujillo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is You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486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rn in 1891 in San Cristobal, Dominican Re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umble 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ary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16, worked as telegraph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the end 1916, employed in a sugar refin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1918, Joins the  National Gu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aises ranks very quickly, unti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ujillo Takes Military Contro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n 1928, Trujillo becomes the head of “La Policía Nacional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Along with Rafael Estrella Ureña, leads the revolution of Santiago against Horacio Vásquez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Later, with the help from the US, he takes control and becomes”Presidente de la República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81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Regime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76720" y="1828800"/>
            <a:ext cx="5371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akes control of the country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 (economy, politics, etc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Gets rid of his enemies by sending them to prison &amp; torturing th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Examples of tor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- electric shocks, water drips, etc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s Hermanas Mirab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419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n el tiempo de las mariposa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rujillo falls in love with Minerva, imprisons her husband Manolo Tavarez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he becomes involved in the revolutionary movement , </a:t>
            </a:r>
            <a:r>
              <a:rPr b="1" i="1" lang="en-US" sz="2500" spc="-1" strike="noStrike">
                <a:solidFill>
                  <a:srgbClr val="ffffff"/>
                </a:solidFill>
                <a:latin typeface="Tahoma"/>
              </a:rPr>
              <a:t>14 de jun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Murdered at the end of 1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 revolució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revolution began with the slow fall of the dictatorshi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US government contacted a group of rebels to help assassinate Trujillo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assassination occurred on May 30, 196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34080" y="2585880"/>
            <a:ext cx="37051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Legacy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lthough it was a violent regime, Trujillo’s Era was a moment of incredible prosperity for the Dominican econom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fter his assassination, Democracy was reach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Joaquín Balagu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24964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629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18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9:34:35Z</dcterms:created>
  <dc:creator>Mechanical Engineering</dc:creator>
  <dc:description/>
  <dc:language>en-US</dc:language>
  <cp:lastModifiedBy>Helen Zumaeta</cp:lastModifiedBy>
  <dcterms:modified xsi:type="dcterms:W3CDTF">2012-01-30T19:26:52Z</dcterms:modified>
  <cp:revision>34</cp:revision>
  <dc:subject/>
  <dc:title>Republica Dominicana 1930 - 1961</dc:title>
</cp:coreProperties>
</file>